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51F6-7E0F-4D55-8C77-1E0BE2A0EA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E043-31CB-46B3-AD75-D41D8D04E5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1AA0-299B-4CC3-9A8E-3733A0BB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2DD-45CC-40EF-9D32-78EE5B6C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F570-F8C9-42A8-8865-7A7B34AF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560-B131-424D-9150-CF3A28C8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B2D-3906-4628-9B82-A76FFA87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250-C903-4CBF-BEAE-B7052ECD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D6F-5150-4218-87A7-1DB26566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9F5-E8AC-4434-B8FD-DB71305C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945-7943-45EC-A0A2-A6864FAE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DAF9-82AA-4640-9579-DC883A80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722-B2E9-4C26-A668-F1DE8927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358-EB36-4486-9F5C-7D532D1D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A7CD-45CC-480D-850D-2E0A47151A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11592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62160" y="2349360"/>
            <a:ext cx="67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95280" y="2770200"/>
            <a:ext cx="402588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932360" y="2698920"/>
            <a:ext cx="3736800" cy="289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66760" y="2138400"/>
            <a:ext cx="5010120" cy="444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"/>
              <p:cNvSpPr txBox="1"/>
              <p:nvPr/>
            </p:nvSpPr>
            <p:spPr>
              <a:xfrm>
                <a:off x="6172200" y="3716280"/>
                <a:ext cx="2336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643360" y="3068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вязи (кратность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2565360"/>
          <a:ext cx="8194680" cy="2808360"/>
        </p:xfrm>
        <a:graphic>
          <a:graphicData uri="http://schemas.openxmlformats.org/drawingml/2006/table">
            <a:tbl>
              <a:tblPr/>
              <a:tblGrid>
                <a:gridCol w="1638360"/>
                <a:gridCol w="1640160"/>
                <a:gridCol w="1638000"/>
                <a:gridCol w="1640160"/>
                <a:gridCol w="1638000"/>
              </a:tblGrid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в, кДж/м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(С - С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=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С ≡ 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670040" y="2143080"/>
            <a:ext cx="5911920" cy="4705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411280" y="1322280"/>
            <a:ext cx="455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419200" y="1341360"/>
            <a:ext cx="4168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82800" y="2138400"/>
            <a:ext cx="5857920" cy="29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532584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47880" y="17384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3400" y="2087640"/>
            <a:ext cx="554688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7155000" cy="4464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3276720" y="2333520"/>
            <a:ext cx="3012840" cy="1185840"/>
            <a:chOff x="3276720" y="2333520"/>
            <a:chExt cx="3012840" cy="1185840"/>
          </a:xfrm>
        </p:grpSpPr>
        <p:pic>
          <p:nvPicPr>
            <p:cNvPr id="148" name="Picture 9" descr="gl311"/>
            <p:cNvPicPr/>
            <p:nvPr/>
          </p:nvPicPr>
          <p:blipFill>
            <a:blip r:embed="rId2"/>
            <a:srcRect l="37201" t="7373" r="37994" b="4229"/>
            <a:stretch/>
          </p:blipFill>
          <p:spPr>
            <a:xfrm>
              <a:off x="4629240" y="2333520"/>
              <a:ext cx="9889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0"/>
            <p:cNvSpPr/>
            <p:nvPr/>
          </p:nvSpPr>
          <p:spPr>
            <a:xfrm>
              <a:off x="3276720" y="2333520"/>
              <a:ext cx="3012840" cy="11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505320" y="2447640"/>
              <a:ext cx="5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564160" y="2447640"/>
              <a:ext cx="63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13" descr="gl311"/>
            <p:cNvPicPr/>
            <p:nvPr/>
          </p:nvPicPr>
          <p:blipFill>
            <a:blip r:embed="rId3"/>
            <a:srcRect l="10973" t="23091" r="70169" b="34656"/>
            <a:stretch/>
          </p:blipFill>
          <p:spPr>
            <a:xfrm>
              <a:off x="3689280" y="2693880"/>
              <a:ext cx="5842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l311"/>
            <p:cNvPicPr/>
            <p:nvPr/>
          </p:nvPicPr>
          <p:blipFill>
            <a:blip r:embed="rId4"/>
            <a:srcRect l="10973" t="23091" r="70169" b="34656"/>
            <a:stretch/>
          </p:blipFill>
          <p:spPr>
            <a:xfrm>
              <a:off x="5618160" y="2727360"/>
              <a:ext cx="528840" cy="3981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684600" y="3860640"/>
                <a:ext cx="234792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5" name="Text Box 17"/>
          <p:cNvSpPr/>
          <p:nvPr/>
        </p:nvSpPr>
        <p:spPr>
          <a:xfrm>
            <a:off x="179280" y="54468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язь в молекуле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олярная, имеет на 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 ионный харак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44520" y="1844640"/>
            <a:ext cx="67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химической связ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Объект 1"/>
              <p:cNvSpPr txBox="1"/>
              <p:nvPr/>
            </p:nvSpPr>
            <p:spPr>
              <a:xfrm>
                <a:off x="3490920" y="3860640"/>
                <a:ext cx="252108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Объект 2"/>
              <p:cNvSpPr txBox="1"/>
              <p:nvPr/>
            </p:nvSpPr>
            <p:spPr>
              <a:xfrm>
                <a:off x="2413080" y="5516640"/>
                <a:ext cx="4895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Кл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201840" y="1916280"/>
            <a:ext cx="3098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2195640" y="1911240"/>
            <a:ext cx="5111280" cy="1949760"/>
            <a:chOff x="2195640" y="1911240"/>
            <a:chExt cx="5111280" cy="1949760"/>
          </a:xfrm>
        </p:grpSpPr>
        <p:sp>
          <p:nvSpPr>
            <p:cNvPr id="165" name="Text Box 23"/>
            <p:cNvSpPr/>
            <p:nvPr/>
          </p:nvSpPr>
          <p:spPr>
            <a:xfrm>
              <a:off x="3654360" y="1982880"/>
              <a:ext cx="57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5292720" y="1911240"/>
              <a:ext cx="61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2195640" y="2270160"/>
              <a:ext cx="5111280" cy="1590840"/>
              <a:chOff x="2195640" y="2270160"/>
              <a:chExt cx="5111280" cy="1590840"/>
            </a:xfrm>
          </p:grpSpPr>
          <p:sp>
            <p:nvSpPr>
              <p:cNvPr id="168" name="Oval 8"/>
              <p:cNvSpPr/>
              <p:nvPr/>
            </p:nvSpPr>
            <p:spPr>
              <a:xfrm>
                <a:off x="4284720" y="2270160"/>
                <a:ext cx="934560" cy="936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9"/>
              <p:cNvSpPr/>
              <p:nvPr/>
            </p:nvSpPr>
            <p:spPr>
              <a:xfrm>
                <a:off x="4502160" y="248760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Group 12"/>
              <p:cNvGrpSpPr/>
              <p:nvPr/>
            </p:nvGrpSpPr>
            <p:grpSpPr>
              <a:xfrm>
                <a:off x="2195640" y="2414520"/>
                <a:ext cx="647640" cy="652680"/>
                <a:chOff x="2195640" y="2414520"/>
                <a:chExt cx="647640" cy="652680"/>
              </a:xfrm>
            </p:grpSpPr>
            <p:sp>
              <p:nvSpPr>
                <p:cNvPr id="171" name="Oval 10"/>
                <p:cNvSpPr/>
                <p:nvPr/>
              </p:nvSpPr>
              <p:spPr>
                <a:xfrm>
                  <a:off x="2195640" y="2414520"/>
                  <a:ext cx="64764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11"/>
                <p:cNvSpPr/>
                <p:nvPr/>
              </p:nvSpPr>
              <p:spPr>
                <a:xfrm>
                  <a:off x="2340000" y="248580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13"/>
              <p:cNvGrpSpPr/>
              <p:nvPr/>
            </p:nvGrpSpPr>
            <p:grpSpPr>
              <a:xfrm>
                <a:off x="6659640" y="2343240"/>
                <a:ext cx="647280" cy="652680"/>
                <a:chOff x="6659640" y="2343240"/>
                <a:chExt cx="647280" cy="652680"/>
              </a:xfrm>
            </p:grpSpPr>
            <p:sp>
              <p:nvSpPr>
                <p:cNvPr id="174" name="Oval 14"/>
                <p:cNvSpPr/>
                <p:nvPr/>
              </p:nvSpPr>
              <p:spPr>
                <a:xfrm>
                  <a:off x="6659640" y="2343240"/>
                  <a:ext cx="64728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15"/>
                <p:cNvSpPr/>
                <p:nvPr/>
              </p:nvSpPr>
              <p:spPr>
                <a:xfrm>
                  <a:off x="6803640" y="24145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6" name="Line 17"/>
              <p:cNvSpPr/>
              <p:nvPr/>
            </p:nvSpPr>
            <p:spPr>
              <a:xfrm>
                <a:off x="5219640" y="2703600"/>
                <a:ext cx="13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4284720" y="277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916000" y="270360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>
                <a:off x="5219640" y="2703600"/>
                <a:ext cx="86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H="1">
                <a:off x="3418920" y="270360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4456800" y="3279600"/>
                <a:ext cx="79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26"/>
              <p:cNvSpPr/>
              <p:nvPr/>
            </p:nvSpPr>
            <p:spPr>
              <a:xfrm>
                <a:off x="232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27"/>
              <p:cNvSpPr/>
              <p:nvPr/>
            </p:nvSpPr>
            <p:spPr>
              <a:xfrm>
                <a:off x="673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4" name="Прямоугольник 24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"/>
              <p:cNvSpPr txBox="1"/>
              <p:nvPr/>
            </p:nvSpPr>
            <p:spPr>
              <a:xfrm>
                <a:off x="2844720" y="407664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37"/>
          <p:cNvGrpSpPr/>
          <p:nvPr/>
        </p:nvGrpSpPr>
        <p:grpSpPr>
          <a:xfrm>
            <a:off x="1547640" y="2131920"/>
            <a:ext cx="2859120" cy="2304720"/>
            <a:chOff x="1547640" y="2131920"/>
            <a:chExt cx="2859120" cy="2304720"/>
          </a:xfrm>
        </p:grpSpPr>
        <p:sp>
          <p:nvSpPr>
            <p:cNvPr id="190" name="Oval 4"/>
            <p:cNvSpPr/>
            <p:nvPr/>
          </p:nvSpPr>
          <p:spPr>
            <a:xfrm>
              <a:off x="3492360" y="2850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3709800" y="2995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8"/>
            <p:cNvGrpSpPr/>
            <p:nvPr/>
          </p:nvGrpSpPr>
          <p:grpSpPr>
            <a:xfrm>
              <a:off x="2195640" y="3787560"/>
              <a:ext cx="718920" cy="649080"/>
              <a:chOff x="2195640" y="3787560"/>
              <a:chExt cx="718920" cy="649080"/>
            </a:xfrm>
          </p:grpSpPr>
          <p:sp>
            <p:nvSpPr>
              <p:cNvPr id="193" name="Oval 6"/>
              <p:cNvSpPr/>
              <p:nvPr/>
            </p:nvSpPr>
            <p:spPr>
              <a:xfrm>
                <a:off x="2195640" y="378756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2266920" y="378756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9"/>
            <p:cNvGrpSpPr/>
            <p:nvPr/>
          </p:nvGrpSpPr>
          <p:grpSpPr>
            <a:xfrm>
              <a:off x="2197080" y="2131920"/>
              <a:ext cx="718920" cy="649080"/>
              <a:chOff x="2197080" y="2131920"/>
              <a:chExt cx="718920" cy="649080"/>
            </a:xfrm>
          </p:grpSpPr>
          <p:sp>
            <p:nvSpPr>
              <p:cNvPr id="196" name="Oval 10"/>
              <p:cNvSpPr/>
              <p:nvPr/>
            </p:nvSpPr>
            <p:spPr>
              <a:xfrm>
                <a:off x="2197080" y="213192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2268360" y="213192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Line 12"/>
            <p:cNvSpPr/>
            <p:nvPr/>
          </p:nvSpPr>
          <p:spPr>
            <a:xfrm flipH="1" flipV="1">
              <a:off x="2916000" y="2563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H="1">
              <a:off x="2916000" y="3571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1547640" y="213192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1567440" y="3787560"/>
              <a:ext cx="58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2716920" y="299556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354560" y="1557360"/>
            <a:ext cx="2247840" cy="3456000"/>
            <a:chOff x="4354560" y="1557360"/>
            <a:chExt cx="2247840" cy="3456000"/>
          </a:xfrm>
        </p:grpSpPr>
        <p:sp>
          <p:nvSpPr>
            <p:cNvPr id="204" name="Line 17"/>
            <p:cNvSpPr/>
            <p:nvPr/>
          </p:nvSpPr>
          <p:spPr>
            <a:xfrm flipV="1">
              <a:off x="4354560" y="2495520"/>
              <a:ext cx="8650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4356000" y="3572640"/>
              <a:ext cx="792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427640" y="32860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5219640" y="2565360"/>
              <a:ext cx="8650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>
              <a:off x="5076720" y="3286080"/>
              <a:ext cx="1008000" cy="863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27"/>
                <p:cNvSpPr txBox="1"/>
                <p:nvPr/>
              </p:nvSpPr>
              <p:spPr>
                <a:xfrm>
                  <a:off x="4932360" y="1557360"/>
                  <a:ext cx="5842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9"/>
                <p:cNvSpPr txBox="1"/>
                <p:nvPr/>
              </p:nvSpPr>
              <p:spPr>
                <a:xfrm>
                  <a:off x="4842000" y="4078440"/>
                  <a:ext cx="622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0"/>
                <p:cNvSpPr txBox="1"/>
                <p:nvPr/>
              </p:nvSpPr>
              <p:spPr>
                <a:xfrm>
                  <a:off x="6135840" y="2638440"/>
                  <a:ext cx="4665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μ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Объект 1"/>
              <p:cNvSpPr txBox="1"/>
              <p:nvPr/>
            </p:nvSpPr>
            <p:spPr>
              <a:xfrm>
                <a:off x="1908000" y="4869000"/>
                <a:ext cx="5256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62728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9970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4626000" y="2016000"/>
            <a:ext cx="41036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539640" y="1962000"/>
            <a:ext cx="3816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262160" y="2133720"/>
            <a:ext cx="6618240" cy="2808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08000" y="5516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салициловый альдеги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 – гидроксибензальдег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340000" y="1268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843120" y="2060640"/>
            <a:ext cx="2358720" cy="3336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-26352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Дидерик Ван-дер-Ваа́ль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ноября 1837 — 8 марта 19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18"/>
              <p:cNvSpPr txBox="1"/>
              <p:nvPr/>
            </p:nvSpPr>
            <p:spPr>
              <a:xfrm>
                <a:off x="5264280" y="2311560"/>
                <a:ext cx="20444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Объект 19"/>
              <p:cNvSpPr txBox="1"/>
              <p:nvPr/>
            </p:nvSpPr>
            <p:spPr>
              <a:xfrm>
                <a:off x="5189400" y="3828960"/>
                <a:ext cx="1974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L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Объект 20"/>
              <p:cNvSpPr txBox="1"/>
              <p:nvPr/>
            </p:nvSpPr>
            <p:spPr>
              <a:xfrm>
                <a:off x="5334120" y="5499000"/>
                <a:ext cx="20509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h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2"/>
          <p:cNvSpPr/>
          <p:nvPr/>
        </p:nvSpPr>
        <p:spPr>
          <a:xfrm>
            <a:off x="381564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6"/>
          <p:cNvSpPr/>
          <p:nvPr/>
        </p:nvSpPr>
        <p:spPr>
          <a:xfrm>
            <a:off x="4450680" y="191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ь-диполь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4554720" y="34290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ц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4708440" y="49975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76360" y="2187720"/>
            <a:ext cx="273528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843360" y="4365720"/>
            <a:ext cx="48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выдвинул гипотезу, которая легла в основу теории ионной химической связи и гетеровален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843360" y="2216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Коссель (нем. Walther Kossel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января 1888 — 22 мая 195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792000" y="1989000"/>
            <a:ext cx="741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+Cl=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ние ио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разование молекулы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-66600" y="24732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лберт Ньютон Льюис (англ. Gilbert Newton Lew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октября 1875 — 23 марта 194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13640" y="2473200"/>
            <a:ext cx="234288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93680" y="414972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Льюис высказал идею, что ковалентная химическая связь образуется за счёт обобществления пары электронов, то есть электронная плотность распределяется между двумя ато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75000" y="2421000"/>
            <a:ext cx="428292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614600" y="4149720"/>
            <a:ext cx="6022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7561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69920" y="2133720"/>
            <a:ext cx="42321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10160" y="3284640"/>
            <a:ext cx="44625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619280" y="613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378120" y="614664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11280" y="2982960"/>
            <a:ext cx="3852720" cy="22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811760" y="2484360"/>
            <a:ext cx="4130640" cy="3248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0:35:54Z</dcterms:created>
  <dc:creator>Кужаров</dc:creator>
  <dc:description/>
  <dc:language>en-US</dc:language>
  <cp:lastModifiedBy>Кужаров</cp:lastModifiedBy>
  <dcterms:modified xsi:type="dcterms:W3CDTF">2011-09-13T09:29:52Z</dcterms:modified>
  <cp:revision>25</cp:revision>
  <dc:subject/>
  <dc:title>            Донской государственный технический университет      Кафедра «Химия» ________________________________________________________</dc:title>
</cp:coreProperties>
</file>