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5.wmf" ContentType="image/x-wmf"/>
  <Override PartName="/ppt/media/image24.png" ContentType="image/png"/>
  <Override PartName="/ppt/media/image23.wmf" ContentType="image/x-wmf"/>
  <Override PartName="/ppt/media/image22.png" ContentType="image/png"/>
  <Override PartName="/ppt/media/image20.wmf" ContentType="image/x-wmf"/>
  <Override PartName="/ppt/media/image17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6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9.png" ContentType="image/png"/>
  <Override PartName="/ppt/media/image28.png" ContentType="image/png"/>
  <Override PartName="/ppt/media/image13.wmf" ContentType="image/x-wmf"/>
  <Override PartName="/ppt/media/image5.png" ContentType="image/png"/>
  <Override PartName="/ppt/media/image35.png" ContentType="image/png"/>
  <Override PartName="/ppt/media/image41.png" ContentType="image/png"/>
  <Override PartName="/ppt/media/image39.wmf" ContentType="image/x-wmf"/>
  <Override PartName="/ppt/media/image9.wmf" ContentType="image/x-wmf"/>
  <Override PartName="/ppt/media/image14.png" ContentType="image/png"/>
  <Override PartName="/ppt/media/image38.wmf" ContentType="image/x-wmf"/>
  <Override PartName="/ppt/media/image40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44.png" ContentType="image/png"/>
  <Override PartName="/ppt/media/image12.wmf" ContentType="image/x-wmf"/>
  <Override PartName="/ppt/media/image4.png" ContentType="image/png"/>
  <Override PartName="/ppt/media/image34.png" ContentType="image/png"/>
  <Override PartName="/ppt/media/image27.png" ContentType="image/png"/>
  <Override PartName="/ppt/media/image30.wmf" ContentType="image/x-wmf"/>
  <Override PartName="/ppt/media/image8.png" ContentType="image/png"/>
  <Override PartName="/ppt/media/image37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11.png" ContentType="image/png"/>
  <Override PartName="/ppt/media/image10.wmf" ContentType="image/x-wmf"/>
  <Override PartName="/ppt/media/image32.png" ContentType="image/png"/>
  <Override PartName="/ppt/media/image2.png" ContentType="image/png"/>
  <Override PartName="/ppt/media/image6.png" ContentType="image/png"/>
  <Override PartName="/ppt/media/image3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64FEF-8F98-4A79-A86C-CC3203B483C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2B3FB-412E-42C1-AED3-FA060FA9906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98A49-ED75-4487-AFEE-F910525D552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3973-5881-4F5B-B928-298569752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E696-7667-4481-A4FD-7A4C726D6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7C20-A04D-4E57-BB7E-B578F96F6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9745-F8DB-4C56-8EC9-713CE6E15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A0440-FEAE-41BA-9D2F-5F20B30BB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7342D-BFE1-4B10-B488-F056CA9D5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AD2F9-BA9C-41D0-A55C-B1B4983EB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18199-2F11-49FF-B37C-96C7AB108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D9598-C1FA-4962-8BFD-5B12BF65B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080E1-B5AB-49B0-9D3D-B24CE83DD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774D3-863D-4156-BA62-7BA42845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8F63-42BB-4EFC-B645-F8C5A9D57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22208-B738-4895-901B-10F8A4C9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30701-F19A-4F27-A20E-0F5B72791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BF3F8-4D95-404F-B05A-8288F8BEC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126FA-0BA2-423A-A2EF-3CDD17DDE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94BA2-6FB3-44F2-A5F2-A610DD171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7492E-09FC-40BD-98AE-5953426DF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05ABA-DC70-4BE9-9B21-D35BE3E79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BF387-AAF3-4414-9C05-5D07C612C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C47F6-E846-4112-B88F-9B0983989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5601E-50CA-441F-9729-D54859AD2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550F-7D70-4F69-A596-7AC18ECD2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791BF-927B-43F7-A09B-D7213DDD5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B832B-3440-4105-AC3E-E1021476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863E3-4326-44A6-8FC9-ACBF539B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BE57E-5A06-41BA-A625-4D750C1B4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3D253-2AC8-48A5-A174-74A49282E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E3CB8-67A0-4277-AC75-0D7D4755D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899E5-64FD-4496-80A2-A1CCB5FF6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E591F-1F51-4C96-AF16-A84CA0B49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465AA-854A-4301-8306-1DA57024A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E16F9-990C-4DA4-BF8A-2D163122F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C2A8-DE7C-427F-8C40-5FCD69346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D9111-7028-4C5D-88C5-24CCC1DE7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D0FB0-1A5F-4379-B64D-0ABABF1BB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C0FFD-870F-4C3C-96E0-E300A3A73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F81D9-75B5-419C-B5E9-21B894272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BF21F-C214-4BA4-991B-B6CEAB7D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2CE18-D40A-495D-B7CE-0F7B94A5F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04518-0B10-4912-BD2F-261C7F743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DF039-E8B9-4726-B14E-98CADCEEB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28FCA-1FFD-41E6-BEB9-81C248358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E67BD-D207-413D-90EE-01C837FC6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F3DB-F42E-4638-8C96-7A89CFF4A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9ED0A0-499B-4050-9DBC-D9EAD1392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B1E133-BA44-4D1B-B119-F6B69722A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DB3B78-5CBB-4747-8EF4-03D17001D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5ACC8-56F6-416E-9534-246D639B7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B626B8-EA5E-43F2-8FE3-D093A4EC9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72F3D-2AA0-4B86-BF2F-2824A0E9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C51E1A-1995-4AAC-9EEF-D4D6B5A4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5BDA29-9FEF-4157-A86F-2BB846E4B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F112F0-75FC-4AB3-BF9D-9F77D0CE2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127EA4-F316-4338-900C-8BDC6EC88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6E41-CC54-4BE6-A03F-C5C5F6DD0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BAE41-3B63-4ED6-9D73-92353D0A2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666A-7406-4D03-8015-F3A6C0937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3DD8-DA55-4533-8350-A8A7A547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8B09-D8E2-4AD2-943E-57421607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>
                  <a:alpha val="1176"/>
                </a:srgbClr>
              </a:gs>
              <a:gs pos="100000">
                <a:srgbClr val="d6ec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459205"/>
              </a:gs>
              <a:gs pos="100000">
                <a:srgbClr val="a7ff79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fc3c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cc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46E9E-D8DA-4FEF-83E3-4FD6DC49636C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D42D4-A440-4A53-9E04-6E76D1A6B8A5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37223-15C7-41F5-9017-7B0A0C8C9A28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D2611-23A6-46C3-BCDE-0459A07936CA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84A70-3FDE-4964-9B7F-37E314F715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49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wmf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Лекция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4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4000" spc="-1" strike="noStrike">
                <a:solidFill>
                  <a:srgbClr val="33cc33"/>
                </a:solidFill>
                <a:latin typeface="Arial"/>
              </a:rPr>
              <a:t>Основы химической кинетики и химическое равновес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2195640" y="549360"/>
            <a:ext cx="6430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  <a:ea typeface="Arial"/>
              </a:rPr>
              <a:t>Донской государственный технический университе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  <a:ea typeface="Arial"/>
              </a:rPr>
              <a:t>Факультет нанотехнологии и композиционные материалы</a:t>
            </a:r>
            <a:r>
              <a:rPr b="0" i="1" lang="en-US" sz="1800" spc="-1" strike="noStrike">
                <a:solidFill>
                  <a:srgbClr val="33cc33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cc33"/>
                </a:solidFill>
                <a:latin typeface="Arial"/>
                <a:ea typeface="Arial"/>
              </a:rPr>
              <a:t>Кафедра «Химия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08760" y="4221000"/>
            <a:ext cx="412488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  <a:ea typeface="Arial"/>
              </a:rPr>
              <a:t>Рекомендуемая литература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Н.Л. Глинка, Общая химия, М.: Химия, 20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Н.В.Коровин Общая химия, М.: Высшая школа, 199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М.И.Гельфман, В.П.Юстратов Химия, СПб.: Лань, 20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chemistry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chem.msu.su/r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367680" y="4365720"/>
            <a:ext cx="216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Е. Г. Задошенк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2011 -2012 учебный год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Заголовок 1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8242200" cy="88416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395280" y="141300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ратимые реакции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это реакции, которые при одних и тех же условиях протекают в прямом и обратном направлении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обратимыми реакциям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называются реакции, которые протекают только в одном направлении, т.е. продукты этих реакций не взаимодействуют друг с другом с образованием исходных вещ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Object 3"/>
          <p:cNvGraphicFramePr/>
          <p:nvPr/>
        </p:nvGraphicFramePr>
        <p:xfrm>
          <a:off x="2700360" y="2276640"/>
          <a:ext cx="4343400" cy="1158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4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0360" y="2276640"/>
                    <a:ext cx="4343400" cy="115884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55" name="Object 4"/>
          <p:cNvGraphicFramePr/>
          <p:nvPr/>
        </p:nvGraphicFramePr>
        <p:xfrm>
          <a:off x="1476360" y="5516640"/>
          <a:ext cx="6424560" cy="831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6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76360" y="5516640"/>
                    <a:ext cx="6424560" cy="83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7" name="" descr=""/>
          <p:cNvPicPr/>
          <p:nvPr/>
        </p:nvPicPr>
        <p:blipFill>
          <a:blip r:embed="rId6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Заголовок 1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8280360" cy="74448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2"/>
          <p:cNvSpPr/>
          <p:nvPr/>
        </p:nvSpPr>
        <p:spPr>
          <a:xfrm>
            <a:off x="250920" y="1265760"/>
            <a:ext cx="604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д скоростью гомогенной химической реакци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 понимают изменение количества вещества (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 за единицу времени (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 в единице объема системы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Object 1"/>
              <p:cNvSpPr txBox="1"/>
              <p:nvPr/>
            </p:nvSpPr>
            <p:spPr>
              <a:xfrm>
                <a:off x="6338880" y="1125360"/>
                <a:ext cx="2567160" cy="121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гомоге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n</m:t>
                        </m:r>
                      </m:num>
                      <m:den>
                        <m:r>
                          <m:t xml:space="preserve">τ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1" name="Rectangle 4"/>
          <p:cNvSpPr/>
          <p:nvPr/>
        </p:nvSpPr>
        <p:spPr>
          <a:xfrm>
            <a:off x="250920" y="4578840"/>
            <a:ext cx="568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од скоростью гетерогенной химической реакци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) понимают изменение количества вещества (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) за единицу времени (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) на единице поверхности раздела фаз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Object 3"/>
              <p:cNvSpPr txBox="1"/>
              <p:nvPr/>
            </p:nvSpPr>
            <p:spPr>
              <a:xfrm>
                <a:off x="6372360" y="4869000"/>
                <a:ext cx="2570040" cy="11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гетероге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n</m:t>
                        </m:r>
                      </m:num>
                      <m:den>
                        <m:r>
                          <m:t xml:space="preserve">τ</m:t>
                        </m:r>
                        <m:r>
                          <m:t xml:space="preserve">⋅</m:t>
                        </m:r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3" name="Прямоугольник 6"/>
          <p:cNvSpPr/>
          <p:nvPr/>
        </p:nvSpPr>
        <p:spPr>
          <a:xfrm>
            <a:off x="179280" y="3213000"/>
            <a:ext cx="639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коростью химической реакци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называют изменение концентрации реагирующих веществ в единицу времени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5"/>
              <p:cNvSpPr txBox="1"/>
              <p:nvPr/>
            </p:nvSpPr>
            <p:spPr>
              <a:xfrm>
                <a:off x="6877080" y="2852640"/>
                <a:ext cx="1485720" cy="121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с</m:t>
                        </m:r>
                      </m:num>
                      <m:den>
                        <m:r>
                          <m:t xml:space="preserve">Δτ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Прямоугольник 24"/>
          <p:cNvSpPr/>
          <p:nvPr/>
        </p:nvSpPr>
        <p:spPr>
          <a:xfrm>
            <a:off x="5076720" y="333360"/>
            <a:ext cx="388800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редняя скорость реакци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конечное изменение концентрации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относящееся к промежутку времени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Прямоугольник 25"/>
          <p:cNvSpPr/>
          <p:nvPr/>
        </p:nvSpPr>
        <p:spPr>
          <a:xfrm>
            <a:off x="4930920" y="2852640"/>
            <a:ext cx="4213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стинная (мгновенная) скорость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реакции определяется тангенсом угла наклона касательной в точке, соответствующей данному моменту време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Object 20"/>
              <p:cNvSpPr txBox="1"/>
              <p:nvPr/>
            </p:nvSpPr>
            <p:spPr>
              <a:xfrm>
                <a:off x="7093080" y="1628640"/>
                <a:ext cx="1719000" cy="121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Δс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Object 21"/>
              <p:cNvSpPr txBox="1"/>
              <p:nvPr/>
            </p:nvSpPr>
            <p:spPr>
              <a:xfrm>
                <a:off x="7164360" y="4076640"/>
                <a:ext cx="168264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dс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0" name="Прямоугольник 28"/>
          <p:cNvSpPr/>
          <p:nvPr/>
        </p:nvSpPr>
        <p:spPr>
          <a:xfrm>
            <a:off x="324000" y="4869000"/>
            <a:ext cx="388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зменение концентрации исходного вещества (1) и продукта реакции (2) во време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Picture 8" descr=""/>
          <p:cNvPicPr/>
          <p:nvPr/>
        </p:nvPicPr>
        <p:blipFill>
          <a:blip r:embed="rId1"/>
          <a:stretch/>
        </p:blipFill>
        <p:spPr>
          <a:xfrm>
            <a:off x="108000" y="1413000"/>
            <a:ext cx="4897440" cy="359388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Заголовок 1" descr=""/>
          <p:cNvPicPr/>
          <p:nvPr/>
        </p:nvPicPr>
        <p:blipFill>
          <a:blip r:embed="rId1"/>
          <a:stretch/>
        </p:blipFill>
        <p:spPr>
          <a:xfrm>
            <a:off x="611280" y="0"/>
            <a:ext cx="8820000" cy="134136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 txBox="1"/>
          <p:nvPr/>
        </p:nvSpPr>
        <p:spPr>
          <a:xfrm>
            <a:off x="1835280" y="1483920"/>
            <a:ext cx="66816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рода реагирующих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центрация реагирующих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зическое состояние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пер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тализа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ерический фак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Заголовок 3" descr=""/>
          <p:cNvPicPr/>
          <p:nvPr/>
        </p:nvPicPr>
        <p:blipFill>
          <a:blip r:embed="rId1"/>
          <a:stretch/>
        </p:blipFill>
        <p:spPr>
          <a:xfrm>
            <a:off x="1763640" y="189000"/>
            <a:ext cx="6481800" cy="8208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" descr=""/>
          <p:cNvPicPr/>
          <p:nvPr/>
        </p:nvPicPr>
        <p:blipFill>
          <a:blip r:embed="rId2"/>
          <a:stretch/>
        </p:blipFill>
        <p:spPr>
          <a:xfrm>
            <a:off x="108000" y="3716280"/>
            <a:ext cx="1843200" cy="2043000"/>
          </a:xfrm>
          <a:prstGeom prst="rect">
            <a:avLst/>
          </a:prstGeom>
          <a:ln w="0">
            <a:noFill/>
          </a:ln>
        </p:spPr>
      </p:pic>
      <p:sp>
        <p:nvSpPr>
          <p:cNvPr id="278" name="Прямоугольник 5"/>
          <p:cNvSpPr/>
          <p:nvPr/>
        </p:nvSpPr>
        <p:spPr>
          <a:xfrm>
            <a:off x="179280" y="1484280"/>
            <a:ext cx="871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крыт в 1867 г.  норвежскими ученными математиком Като Максимилианом  Гульдбергом и химиком Петером Вааг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Прямоугольник 6"/>
          <p:cNvSpPr/>
          <p:nvPr/>
        </p:nvSpPr>
        <p:spPr>
          <a:xfrm>
            <a:off x="179280" y="2060640"/>
            <a:ext cx="8715600" cy="12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корость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химической реакции прямо пропорциональна произведению концентраций реагирующих веществ в степенях их стехиометрических коэффициент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Прямоугольник 9"/>
          <p:cNvSpPr/>
          <p:nvPr/>
        </p:nvSpPr>
        <p:spPr>
          <a:xfrm>
            <a:off x="1928880" y="4000680"/>
            <a:ext cx="7000920" cy="28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ероятность нахождения молекул А и В в точке R зависит от их концентрац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ω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=α[A]          ω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= β[B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ероятность сложного события (т.е. их столкновения) равна произведению вероятностей простых событ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ω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AВ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= ω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·ω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= α[A]·β[B]        α·β = 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AB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= k [A]</a:t>
            </a:r>
            <a:r>
              <a:rPr b="0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[B]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Прямоугольник 13"/>
          <p:cNvSpPr/>
          <p:nvPr/>
        </p:nvSpPr>
        <p:spPr>
          <a:xfrm>
            <a:off x="1835280" y="3429000"/>
            <a:ext cx="678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Математическое обоснование закона действующих масс для реакции А + В = 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Заголовок 1" descr=""/>
          <p:cNvPicPr/>
          <p:nvPr/>
        </p:nvPicPr>
        <p:blipFill>
          <a:blip r:embed="rId1"/>
          <a:stretch/>
        </p:blipFill>
        <p:spPr>
          <a:xfrm>
            <a:off x="1116000" y="189000"/>
            <a:ext cx="6772320" cy="955440"/>
          </a:xfrm>
          <a:prstGeom prst="rect">
            <a:avLst/>
          </a:prstGeom>
          <a:ln w="0">
            <a:noFill/>
          </a:ln>
        </p:spPr>
      </p:pic>
      <p:sp>
        <p:nvSpPr>
          <p:cNvPr id="284" name="Прямоугольник 6"/>
          <p:cNvSpPr/>
          <p:nvPr/>
        </p:nvSpPr>
        <p:spPr>
          <a:xfrm>
            <a:off x="324000" y="1484280"/>
            <a:ext cx="857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инетическое уравнени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это математическое выражение, связывающие скорость реакции с концентрацией реагирующих вещест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Object 4"/>
              <p:cNvSpPr txBox="1"/>
              <p:nvPr/>
            </p:nvSpPr>
            <p:spPr>
              <a:xfrm>
                <a:off x="900000" y="3573360"/>
                <a:ext cx="287208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пр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p>
                        <m:r>
                          <m:t xml:space="preserve">a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b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7"/>
              <p:cNvSpPr txBox="1"/>
              <p:nvPr/>
            </p:nvSpPr>
            <p:spPr>
              <a:xfrm>
                <a:off x="4356000" y="3500280"/>
                <a:ext cx="2955960" cy="6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обр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  <m:sup>
                        <m:r>
                          <m:t xml:space="preserve">c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7" name="Прямоугольник 12"/>
          <p:cNvSpPr/>
          <p:nvPr/>
        </p:nvSpPr>
        <p:spPr>
          <a:xfrm>
            <a:off x="324000" y="4292640"/>
            <a:ext cx="7858080" cy="10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гомогенной реакции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N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13"/>
          <p:cNvSpPr/>
          <p:nvPr/>
        </p:nvSpPr>
        <p:spPr>
          <a:xfrm>
            <a:off x="684360" y="5177520"/>
            <a:ext cx="7643520" cy="13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гетерогенной реакции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(к) + 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9" name="Object 12"/>
          <p:cNvGraphicFramePr/>
          <p:nvPr/>
        </p:nvGraphicFramePr>
        <p:xfrm>
          <a:off x="2627280" y="2708280"/>
          <a:ext cx="3473640" cy="88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0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27280" y="2708280"/>
                    <a:ext cx="347364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Заголовок 1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884160"/>
          </a:xfrm>
          <a:prstGeom prst="rect">
            <a:avLst/>
          </a:prstGeom>
          <a:ln w="0">
            <a:noFill/>
          </a:ln>
        </p:spPr>
      </p:pic>
      <p:sp>
        <p:nvSpPr>
          <p:cNvPr id="293" name="Прямоугольник 2"/>
          <p:cNvSpPr/>
          <p:nvPr/>
        </p:nvSpPr>
        <p:spPr>
          <a:xfrm>
            <a:off x="214200" y="1428840"/>
            <a:ext cx="871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эффициент пропорциональности, называемый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нстантой скорости реа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Прямоугольник 3"/>
          <p:cNvSpPr/>
          <p:nvPr/>
        </p:nvSpPr>
        <p:spPr>
          <a:xfrm>
            <a:off x="179280" y="2349360"/>
            <a:ext cx="8715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физический смысл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нстанта скорости реакции численно равна скорости реакции, при концентрации реагирующих веществ равной единиц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эффициент пропорциональности, называемый константой скорости реа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Прямоугольник 4"/>
          <p:cNvSpPr/>
          <p:nvPr/>
        </p:nvSpPr>
        <p:spPr>
          <a:xfrm>
            <a:off x="250920" y="472428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нстанта скорости реакции зависит от природы реагирующих веществ, температуры и присутствия катализаторов, но не зависит от концентрации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ещест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Заголовок 1" descr=""/>
          <p:cNvPicPr/>
          <p:nvPr/>
        </p:nvPicPr>
        <p:blipFill>
          <a:blip r:embed="rId1"/>
          <a:stretch/>
        </p:blipFill>
        <p:spPr>
          <a:xfrm>
            <a:off x="2124000" y="115920"/>
            <a:ext cx="6240600" cy="8776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7" descr=""/>
          <p:cNvPicPr/>
          <p:nvPr/>
        </p:nvPicPr>
        <p:blipFill>
          <a:blip r:embed="rId2"/>
          <a:srcRect l="0" t="0" r="0" b="4710"/>
          <a:stretch/>
        </p:blipFill>
        <p:spPr>
          <a:xfrm>
            <a:off x="324000" y="1413000"/>
            <a:ext cx="2716200" cy="3714480"/>
          </a:xfrm>
          <a:prstGeom prst="rect">
            <a:avLst/>
          </a:prstGeom>
          <a:ln w="0">
            <a:noFill/>
          </a:ln>
        </p:spPr>
      </p:pic>
      <p:sp>
        <p:nvSpPr>
          <p:cNvPr id="299" name="Прямоугольник 9"/>
          <p:cNvSpPr/>
          <p:nvPr/>
        </p:nvSpPr>
        <p:spPr>
          <a:xfrm>
            <a:off x="405720" y="5373720"/>
            <a:ext cx="224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Якоб Хендри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ант-Гоф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Прямоугольник 10"/>
          <p:cNvSpPr/>
          <p:nvPr/>
        </p:nvSpPr>
        <p:spPr>
          <a:xfrm>
            <a:off x="3214800" y="1143000"/>
            <a:ext cx="564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и повышении температуры на 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скорость химической реакции увеличивается в 2-4 ра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Object 8"/>
              <p:cNvSpPr txBox="1"/>
              <p:nvPr/>
            </p:nvSpPr>
            <p:spPr>
              <a:xfrm>
                <a:off x="3500280" y="2714760"/>
                <a:ext cx="4880160" cy="12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γ</m:t>
                        </m:r>
                      </m:e>
                      <m:sup>
                        <m:f>
                          <m:num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γ</m:t>
                        </m:r>
                      </m:e>
                      <m:sup>
                        <m:f>
                          <m:num>
                            <m:r>
                              <m:t xml:space="preserve">Δ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03" name="Прямоугольник 13"/>
          <p:cNvSpPr/>
          <p:nvPr/>
        </p:nvSpPr>
        <p:spPr>
          <a:xfrm>
            <a:off x="3214800" y="4071960"/>
            <a:ext cx="5572080" cy="24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скорость реакции при температуре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i="1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- скорость реакции при температуре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Symbol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температурный коэффициент, принимает значения от 2 до 4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Заголовок 1" descr=""/>
          <p:cNvPicPr/>
          <p:nvPr/>
        </p:nvPicPr>
        <p:blipFill>
          <a:blip r:embed="rId1"/>
          <a:stretch/>
        </p:blipFill>
        <p:spPr>
          <a:xfrm>
            <a:off x="1619280" y="115920"/>
            <a:ext cx="8251920" cy="677880"/>
          </a:xfrm>
          <a:prstGeom prst="rect">
            <a:avLst/>
          </a:prstGeom>
          <a:ln w="0">
            <a:noFill/>
          </a:ln>
        </p:spPr>
      </p:pic>
      <p:sp>
        <p:nvSpPr>
          <p:cNvPr id="306" name="Прямоугольник 2"/>
          <p:cNvSpPr/>
          <p:nvPr/>
        </p:nvSpPr>
        <p:spPr>
          <a:xfrm>
            <a:off x="2771640" y="907920"/>
            <a:ext cx="608652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еория активных столкновений позволяет вывести математическое соотношение между скоростью реакции, частотой столкновений и вероятность того, что энергия молекул превосходит величину Е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Picture 2" descr=""/>
          <p:cNvPicPr/>
          <p:nvPr/>
        </p:nvPicPr>
        <p:blipFill>
          <a:blip r:embed="rId2"/>
          <a:srcRect l="2833" t="0" r="0" b="0"/>
          <a:stretch/>
        </p:blipFill>
        <p:spPr>
          <a:xfrm>
            <a:off x="179280" y="1700280"/>
            <a:ext cx="2440080" cy="3321000"/>
          </a:xfrm>
          <a:prstGeom prst="rect">
            <a:avLst/>
          </a:prstGeom>
          <a:ln w="0">
            <a:noFill/>
          </a:ln>
        </p:spPr>
      </p:pic>
      <p:sp>
        <p:nvSpPr>
          <p:cNvPr id="308" name="Прямоугольник 5"/>
          <p:cNvSpPr/>
          <p:nvPr/>
        </p:nvSpPr>
        <p:spPr>
          <a:xfrm>
            <a:off x="232200" y="5373720"/>
            <a:ext cx="229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ванте Авгус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ррениус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7"/>
          <p:cNvSpPr/>
          <p:nvPr/>
        </p:nvSpPr>
        <p:spPr>
          <a:xfrm>
            <a:off x="3564000" y="3284640"/>
            <a:ext cx="46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УРАВНЕНИЕ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АРРЕНИУ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Object 2"/>
              <p:cNvSpPr txBox="1"/>
              <p:nvPr/>
            </p:nvSpPr>
            <p:spPr>
              <a:xfrm>
                <a:off x="4572000" y="3716280"/>
                <a:ext cx="258768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z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11" name="Прямоугольник 9"/>
          <p:cNvSpPr/>
          <p:nvPr/>
        </p:nvSpPr>
        <p:spPr>
          <a:xfrm>
            <a:off x="3276720" y="4653000"/>
            <a:ext cx="571500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постоянная скорости реакц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– число столкновен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универсальная газовая постоянна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абсолютная температур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</a:t>
            </a:r>
            <a:r>
              <a:rPr b="0" i="1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энергия актив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Заголовок 1" descr=""/>
          <p:cNvPicPr/>
          <p:nvPr/>
        </p:nvPicPr>
        <p:blipFill>
          <a:blip r:embed="rId1"/>
          <a:stretch/>
        </p:blipFill>
        <p:spPr>
          <a:xfrm>
            <a:off x="755640" y="0"/>
            <a:ext cx="7697880" cy="79524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2" descr=""/>
          <p:cNvPicPr/>
          <p:nvPr/>
        </p:nvPicPr>
        <p:blipFill>
          <a:blip r:embed="rId2"/>
          <a:stretch/>
        </p:blipFill>
        <p:spPr>
          <a:xfrm>
            <a:off x="179280" y="1484280"/>
            <a:ext cx="4929120" cy="3429000"/>
          </a:xfrm>
          <a:prstGeom prst="rect">
            <a:avLst/>
          </a:prstGeom>
          <a:ln w="0">
            <a:noFill/>
          </a:ln>
        </p:spPr>
      </p:pic>
      <p:sp>
        <p:nvSpPr>
          <p:cNvPr id="315" name="Прямоугольник 4"/>
          <p:cNvSpPr/>
          <p:nvPr/>
        </p:nvSpPr>
        <p:spPr>
          <a:xfrm>
            <a:off x="0" y="4857840"/>
            <a:ext cx="485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спределение молекул по кинетической энерг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Прямоугольник 5"/>
          <p:cNvSpPr/>
          <p:nvPr/>
        </p:nvSpPr>
        <p:spPr>
          <a:xfrm>
            <a:off x="5219640" y="907920"/>
            <a:ext cx="3643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Энергия активации –минимальная энергия, которая необходима для химического взаимодейств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Энергию активации можно рассматривать как некоторый энергетический барьер, который должны преодолеть сталкивающиеся молекул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Заголовок 3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8114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539640" y="1413000"/>
            <a:ext cx="8229600" cy="50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понятия и опред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орость химической 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кторы, влияющие на скорость химической 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ория активных столкнов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ория переходного состоя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тали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имическое равновес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нцип Ле Шател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кторы, влияющие на смещение химического равнове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Заголовок 1" descr=""/>
          <p:cNvPicPr/>
          <p:nvPr/>
        </p:nvPicPr>
        <p:blipFill>
          <a:blip r:embed="rId1"/>
          <a:stretch/>
        </p:blipFill>
        <p:spPr>
          <a:xfrm>
            <a:off x="1547640" y="189000"/>
            <a:ext cx="7337520" cy="8208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2" descr=""/>
          <p:cNvPicPr/>
          <p:nvPr/>
        </p:nvPicPr>
        <p:blipFill>
          <a:blip r:embed="rId2"/>
          <a:srcRect l="2204" t="15004" r="3861" b="3754"/>
          <a:stretch/>
        </p:blipFill>
        <p:spPr>
          <a:xfrm>
            <a:off x="755640" y="2276640"/>
            <a:ext cx="7772400" cy="39463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1" descr=""/>
          <p:cNvPicPr/>
          <p:nvPr/>
        </p:nvPicPr>
        <p:blipFill>
          <a:blip r:embed="rId3"/>
          <a:stretch/>
        </p:blipFill>
        <p:spPr>
          <a:xfrm>
            <a:off x="3203640" y="1268280"/>
            <a:ext cx="3956040" cy="944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Заголовок 1" descr=""/>
          <p:cNvPicPr/>
          <p:nvPr/>
        </p:nvPicPr>
        <p:blipFill>
          <a:blip r:embed="rId1"/>
          <a:stretch/>
        </p:blipFill>
        <p:spPr>
          <a:xfrm>
            <a:off x="1193760" y="189000"/>
            <a:ext cx="7950240" cy="7239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" descr=""/>
          <p:cNvPicPr/>
          <p:nvPr/>
        </p:nvPicPr>
        <p:blipFill>
          <a:blip r:embed="rId2"/>
          <a:stretch/>
        </p:blipFill>
        <p:spPr>
          <a:xfrm>
            <a:off x="0" y="1484280"/>
            <a:ext cx="6477120" cy="4857840"/>
          </a:xfrm>
          <a:prstGeom prst="rect">
            <a:avLst/>
          </a:prstGeom>
          <a:ln w="0">
            <a:noFill/>
          </a:ln>
        </p:spPr>
      </p:pic>
      <p:sp>
        <p:nvSpPr>
          <p:cNvPr id="324" name="Прямоугольник 3"/>
          <p:cNvSpPr/>
          <p:nvPr/>
        </p:nvSpPr>
        <p:spPr>
          <a:xfrm>
            <a:off x="6084720" y="1052640"/>
            <a:ext cx="2808360" cy="57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энергия актив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исх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стандартная энтальпия исходных вещест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кон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стандартная энтальпия продуктов реа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тепловой эффект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а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Заголовок 1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671760"/>
          </a:xfrm>
          <a:prstGeom prst="rect">
            <a:avLst/>
          </a:prstGeom>
          <a:ln w="0">
            <a:noFill/>
          </a:ln>
        </p:spPr>
      </p:pic>
      <p:sp>
        <p:nvSpPr>
          <p:cNvPr id="327" name="Прямоугольник 2"/>
          <p:cNvSpPr/>
          <p:nvPr/>
        </p:nvSpPr>
        <p:spPr>
          <a:xfrm>
            <a:off x="250920" y="1268280"/>
            <a:ext cx="871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ещества, не расходующиеся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результате протекания реакции, но влияющие на ее скорость называются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атализатор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Явление изменения скорости реакции под действием катализаторов называют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атализо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Прямоугольник 3"/>
          <p:cNvSpPr/>
          <p:nvPr/>
        </p:nvSpPr>
        <p:spPr>
          <a:xfrm>
            <a:off x="324000" y="3213000"/>
            <a:ext cx="850104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ханизм действия катализатор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 стадия:            А + К → А … К → А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кт. комп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 стадия:          АК + В → В … АК → АВ + 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кт. комп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ходе реакции катализатор не расходуе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тализатор изменяет путь реакции и тем самым влияет на энергию актив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Заголовок 1" descr=""/>
          <p:cNvPicPr/>
          <p:nvPr/>
        </p:nvPicPr>
        <p:blipFill>
          <a:blip r:embed="rId1"/>
          <a:stretch/>
        </p:blipFill>
        <p:spPr>
          <a:xfrm>
            <a:off x="658800" y="189000"/>
            <a:ext cx="8485200" cy="13176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2" descr=""/>
          <p:cNvPicPr/>
          <p:nvPr/>
        </p:nvPicPr>
        <p:blipFill>
          <a:blip r:embed="rId2"/>
          <a:stretch/>
        </p:blipFill>
        <p:spPr>
          <a:xfrm>
            <a:off x="1042920" y="1628640"/>
            <a:ext cx="7558200" cy="480060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Заголовок 1" descr=""/>
          <p:cNvPicPr/>
          <p:nvPr/>
        </p:nvPicPr>
        <p:blipFill>
          <a:blip r:embed="rId1"/>
          <a:stretch/>
        </p:blipFill>
        <p:spPr>
          <a:xfrm>
            <a:off x="1619280" y="189000"/>
            <a:ext cx="6092640" cy="744480"/>
          </a:xfrm>
          <a:prstGeom prst="rect">
            <a:avLst/>
          </a:prstGeom>
          <a:ln w="0">
            <a:noFill/>
          </a:ln>
        </p:spPr>
      </p:pic>
      <p:sp>
        <p:nvSpPr>
          <p:cNvPr id="334" name="Прямоугольник 2"/>
          <p:cNvSpPr/>
          <p:nvPr/>
        </p:nvSpPr>
        <p:spPr>
          <a:xfrm>
            <a:off x="179280" y="1197000"/>
            <a:ext cx="8643960" cy="25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гомогенном катализе -  катализатор  и реагирующие вещества находятся в  одной фаз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схема реакц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1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+ I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 + IO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. IO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+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 + I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+ 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Прямоугольник 3"/>
          <p:cNvSpPr/>
          <p:nvPr/>
        </p:nvSpPr>
        <p:spPr>
          <a:xfrm>
            <a:off x="179280" y="3141720"/>
            <a:ext cx="8643960" cy="32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гетерогенном катализе  – катализатор и реагенты находятся в разных фаз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схема реакц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 + 1/2 O</a:t>
            </a:r>
            <a:r>
              <a:rPr b="0" lang="pl-PL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CO</a:t>
            </a:r>
            <a:r>
              <a:rPr b="0" lang="pl-PL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1.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 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s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C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с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.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2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3.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) +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)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4.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)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Прямоугольник 4"/>
          <p:cNvSpPr/>
          <p:nvPr/>
        </p:nvSpPr>
        <p:spPr>
          <a:xfrm>
            <a:off x="214200" y="578628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 ферментативном катализе – катализатором являются сложные белковые молекулы (энзимы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Заголовок 1" descr=""/>
          <p:cNvPicPr/>
          <p:nvPr/>
        </p:nvPicPr>
        <p:blipFill>
          <a:blip r:embed="rId1"/>
          <a:stretch/>
        </p:blipFill>
        <p:spPr>
          <a:xfrm>
            <a:off x="1692360" y="115920"/>
            <a:ext cx="6296040" cy="1028520"/>
          </a:xfrm>
          <a:prstGeom prst="rect">
            <a:avLst/>
          </a:prstGeom>
          <a:ln w="0">
            <a:noFill/>
          </a:ln>
        </p:spPr>
      </p:pic>
      <p:sp>
        <p:nvSpPr>
          <p:cNvPr id="339" name="Прямоугольник 2"/>
          <p:cNvSpPr/>
          <p:nvPr/>
        </p:nvSpPr>
        <p:spPr>
          <a:xfrm>
            <a:off x="250920" y="1413000"/>
            <a:ext cx="864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остояние обратимой реакции, при котором скорость прямой реакции равна скорости обратной реакции, называется химическим равновесие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0" name="Picture 2" descr=""/>
          <p:cNvPicPr/>
          <p:nvPr/>
        </p:nvPicPr>
        <p:blipFill>
          <a:blip r:embed="rId2"/>
          <a:stretch/>
        </p:blipFill>
        <p:spPr>
          <a:xfrm>
            <a:off x="250920" y="2637000"/>
            <a:ext cx="4054320" cy="3576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41" name="Object 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342" name="Picture 5" descr=""/>
          <p:cNvPicPr/>
          <p:nvPr/>
        </p:nvPicPr>
        <p:blipFill>
          <a:blip r:embed="rId3"/>
          <a:stretch/>
        </p:blipFill>
        <p:spPr>
          <a:xfrm>
            <a:off x="5076720" y="2637000"/>
            <a:ext cx="3425760" cy="961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43" name="Object 7"/>
              <p:cNvSpPr txBox="1"/>
              <p:nvPr/>
            </p:nvSpPr>
            <p:spPr>
              <a:xfrm>
                <a:off x="5292720" y="3789360"/>
                <a:ext cx="300348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пр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пр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p>
                        <m:r>
                          <m:t xml:space="preserve">a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b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8"/>
              <p:cNvSpPr txBox="1"/>
              <p:nvPr/>
            </p:nvSpPr>
            <p:spPr>
              <a:xfrm>
                <a:off x="5219640" y="4581360"/>
                <a:ext cx="314640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обр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обр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  <m:sup>
                        <m:r>
                          <m:t xml:space="preserve">c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Object 9"/>
              <p:cNvSpPr txBox="1"/>
              <p:nvPr/>
            </p:nvSpPr>
            <p:spPr>
              <a:xfrm>
                <a:off x="4427640" y="5661000"/>
                <a:ext cx="43606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пр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p>
                        <m:r>
                          <m:t xml:space="preserve">a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b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обр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  <m:sup>
                        <m:r>
                          <m:t xml:space="preserve">c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34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Заголовок 1" descr=""/>
          <p:cNvPicPr/>
          <p:nvPr/>
        </p:nvPicPr>
        <p:blipFill>
          <a:blip r:embed="rId1"/>
          <a:stretch/>
        </p:blipFill>
        <p:spPr>
          <a:xfrm>
            <a:off x="704880" y="189000"/>
            <a:ext cx="8439120" cy="81576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2"/>
          <p:cNvSpPr/>
          <p:nvPr/>
        </p:nvSpPr>
        <p:spPr>
          <a:xfrm>
            <a:off x="285840" y="1138680"/>
            <a:ext cx="8643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онстанта химического равновеси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 это отношение произведения равновесных концентраций продуктов реакции к произведению равновесных концентраций исходных веществ, при чем все вещества находятся в степенях численно равных их стехиометрическим коэффициент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Object 5"/>
              <p:cNvSpPr txBox="1"/>
              <p:nvPr/>
            </p:nvSpPr>
            <p:spPr>
              <a:xfrm>
                <a:off x="2287440" y="3357720"/>
                <a:ext cx="4411800" cy="11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пр</m:t>
                        </m:r>
                      </m:num>
                      <m:den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обр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C</m:t>
                                </m:r>
                              </m:e>
                            </m:d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D</m:t>
                                </m:r>
                              </m:e>
                            </m:d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d</m:t>
                            </m:r>
                          </m:sup>
                        </m:sSubSup>
                      </m:num>
                      <m:den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B</m:t>
                                </m:r>
                              </m:e>
                            </m:d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2" name="Rectangle 7"/>
          <p:cNvSpPr/>
          <p:nvPr/>
        </p:nvSpPr>
        <p:spPr>
          <a:xfrm>
            <a:off x="428760" y="4548600"/>
            <a:ext cx="82864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гомогенных реакци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+ 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2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Прямоугольник 9"/>
          <p:cNvSpPr/>
          <p:nvPr/>
        </p:nvSpPr>
        <p:spPr>
          <a:xfrm>
            <a:off x="395280" y="5661000"/>
            <a:ext cx="85010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гетерогенных реакций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nO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+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Zn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тв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Object 8"/>
              <p:cNvSpPr txBox="1"/>
              <p:nvPr/>
            </p:nvSpPr>
            <p:spPr>
              <a:xfrm>
                <a:off x="5094360" y="4653000"/>
                <a:ext cx="259380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р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O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O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Object 9"/>
              <p:cNvSpPr txBox="1"/>
              <p:nvPr/>
            </p:nvSpPr>
            <p:spPr>
              <a:xfrm>
                <a:off x="5219640" y="5734080"/>
                <a:ext cx="183060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р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O</m:t>
                            </m:r>
                          </m:e>
                        </m:d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Заголовок 1" descr=""/>
          <p:cNvPicPr/>
          <p:nvPr/>
        </p:nvPicPr>
        <p:blipFill>
          <a:blip r:embed="rId1"/>
          <a:stretch/>
        </p:blipFill>
        <p:spPr>
          <a:xfrm>
            <a:off x="2268360" y="115920"/>
            <a:ext cx="5747040" cy="744480"/>
          </a:xfrm>
          <a:prstGeom prst="rect">
            <a:avLst/>
          </a:prstGeom>
          <a:ln w="0">
            <a:noFill/>
          </a:ln>
        </p:spPr>
      </p:pic>
      <p:sp>
        <p:nvSpPr>
          <p:cNvPr id="358" name="Прямоугольник 4"/>
          <p:cNvSpPr/>
          <p:nvPr/>
        </p:nvSpPr>
        <p:spPr>
          <a:xfrm>
            <a:off x="539640" y="1052640"/>
            <a:ext cx="842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имическое равновесие является подвижным. При изменении внешних условий скорости прямой и обратной реакций могут стать неодинаковыми, что обуславливает смещение (сдиг) равновесия.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9" name="Picture 2" descr=""/>
          <p:cNvPicPr/>
          <p:nvPr/>
        </p:nvPicPr>
        <p:blipFill>
          <a:blip r:embed="rId2"/>
          <a:stretch/>
        </p:blipFill>
        <p:spPr>
          <a:xfrm>
            <a:off x="468360" y="2637000"/>
            <a:ext cx="2743200" cy="325728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1"/>
          <p:cNvSpPr/>
          <p:nvPr/>
        </p:nvSpPr>
        <p:spPr>
          <a:xfrm>
            <a:off x="3708360" y="2606040"/>
            <a:ext cx="507204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1884 г. французский химик Анри Луи Ле Шателье сформулировал принцип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сли на равновесную систему оказать внешнее воздействие, то равновесие смещается в сторону той реакции (прямой или обратной), которая противодействует этому воздейств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Rectangle 2"/>
          <p:cNvSpPr/>
          <p:nvPr/>
        </p:nvSpPr>
        <p:spPr>
          <a:xfrm>
            <a:off x="395280" y="5878800"/>
            <a:ext cx="285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нри Лу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е Шатель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Заголовок 1" descr=""/>
          <p:cNvPicPr/>
          <p:nvPr/>
        </p:nvPicPr>
        <p:blipFill>
          <a:blip r:embed="rId1"/>
          <a:stretch/>
        </p:blipFill>
        <p:spPr>
          <a:xfrm>
            <a:off x="863640" y="0"/>
            <a:ext cx="8280360" cy="133992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1"/>
          <p:cNvSpPr/>
          <p:nvPr/>
        </p:nvSpPr>
        <p:spPr>
          <a:xfrm>
            <a:off x="395280" y="1555200"/>
            <a:ext cx="8501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 Концентраци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При увеличении (уменьшении) концентрации реагирующих веществ и при уменьшении (увеличении) концентрации продуктов реакции химическое равновесие смещается вправо (влево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Прямоугольник 5"/>
          <p:cNvSpPr/>
          <p:nvPr/>
        </p:nvSpPr>
        <p:spPr>
          <a:xfrm>
            <a:off x="395280" y="3284640"/>
            <a:ext cx="842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 Давление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 увеличении (уменьшении) давления равновесие смещается в сторону уменьшения (увеличения) числа молекул (молей) газообразных вещест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Прямоугольник 6"/>
          <p:cNvSpPr/>
          <p:nvPr/>
        </p:nvSpPr>
        <p:spPr>
          <a:xfrm>
            <a:off x="428760" y="492912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 Температура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вышение (понижение) температуры приводит к смещению химического равновесия в сторону эндотермической (экзотермической) реак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Заголовок 1" descr=""/>
          <p:cNvPicPr/>
          <p:nvPr/>
        </p:nvPicPr>
        <p:blipFill>
          <a:blip r:embed="rId1"/>
          <a:stretch/>
        </p:blipFill>
        <p:spPr>
          <a:xfrm>
            <a:off x="2124000" y="476280"/>
            <a:ext cx="5443560" cy="723960"/>
          </a:xfrm>
          <a:prstGeom prst="rect">
            <a:avLst/>
          </a:prstGeom>
          <a:ln w="0">
            <a:noFill/>
          </a:ln>
        </p:spPr>
      </p:pic>
      <p:sp>
        <p:nvSpPr>
          <p:cNvPr id="369" name="Прямоугольник 3"/>
          <p:cNvSpPr/>
          <p:nvPr/>
        </p:nvSpPr>
        <p:spPr>
          <a:xfrm>
            <a:off x="468360" y="1916280"/>
            <a:ext cx="8429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.Л. Глинка, Общая химия, М.: Химия, 20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.В.Коровин Общая химия, М.: Высшая школа, 199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.И.Гельфман, В.П.Юстратов Химия, СПб.: Лань, 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www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chemistry.r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ww. chem.msu.su/r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Прямоугольник 7"/>
          <p:cNvSpPr/>
          <p:nvPr/>
        </p:nvSpPr>
        <p:spPr>
          <a:xfrm>
            <a:off x="250920" y="127080"/>
            <a:ext cx="8643960" cy="73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Century Gothic"/>
              </a:rPr>
              <a:t>ОСНОВНЫЕ ПОНЯТ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Century Gothic"/>
              </a:rPr>
              <a:t>И ОПРЕДЕ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Химическая кинетика 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здел химии, изучающий скорости и механизмы химических процессов, а также зависимость их от различных фактор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еханизм реакции –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это последовательность отдельных простейших (элементарных) стадий реакции, в результате которых происходит образование конечных вещест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еоретическое значение кинетик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остоит в том, что она позволяет проникнуть в сущность механизма химического взаимодейств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икладное значение кинетик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пределяется тем, что для практического использования какой-либо реакции необходимо управлять ею, т.е. знать скорость ее протекания в данных условиях и способы изменения этой скор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2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412120" cy="8114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684000" y="1844640"/>
            <a:ext cx="828036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числу частиц, участвующих в элементарном акте реакции (молекулярно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числу фаз, участвующих в 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применимости катализат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степени слож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механизму протек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2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6159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68360" y="1628640"/>
            <a:ext cx="84009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екулярность реакции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минимальное число молекул, участвующих в элементарном химическом процесс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номолекулярные реакции: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6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2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молекулярные реакци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г)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г) =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имолекулярные реак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2NO + O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= 2 NO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NO + 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 NO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Заголовок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28200" cy="11635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178920" y="1773360"/>
            <a:ext cx="864396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омогенные реак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это реакции, протекающие в однородной среде ( в одной фазе). Например, в газообразной фазе или жидком растворе. Гомогенные реакции протекают равномерно во всем объеме реакционного простран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етерогенные реак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это реакции, протекающие в неоднородной среде, т.е. между веществами, которые находятся в разных фазах (твердой и жидкой, газообразной и жидкой и т.д.). Гетерогенные  реакции идут на границе раздела ф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14083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500040" y="17146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талитические реак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реакции, протекающие под действием катализато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 +  В  =  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втокаталитические реакци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реакции, в которых катализатором является один из продуктов реак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имер, при разложении перманганата калия образуется оксид марганца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V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торый является катализатором для данного процесс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Mn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4705560" y="270828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entury Gothic"/>
              </a:rPr>
              <a:t>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6717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457200" y="928800"/>
            <a:ext cx="822960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стые реакции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это реакции, протекающие в одну стадию, в них участвуют только частицы, входящие в уравнение реа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ложные реак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это реакции, идущие в несколько стадий, которые идут последовательно, либо параллельно, либо  последовательно-паралле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Заголовок 3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884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4" name="Object 3"/>
          <p:cNvGraphicFramePr/>
          <p:nvPr/>
        </p:nvGraphicFramePr>
        <p:xfrm>
          <a:off x="5651640" y="2924280"/>
          <a:ext cx="2425680" cy="291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5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51640" y="2924280"/>
                    <a:ext cx="242568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Прямоугольник 6"/>
          <p:cNvSpPr/>
          <p:nvPr/>
        </p:nvSpPr>
        <p:spPr>
          <a:xfrm>
            <a:off x="250920" y="1628640"/>
            <a:ext cx="864396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следовательными реакциями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ывают реакции с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межуточными стадиями, когда продукт предыдущей стадии служит исходным веществом для последующей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CHC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HCl + CC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Прямоугольник 8"/>
          <p:cNvSpPr/>
          <p:nvPr/>
        </p:nvSpPr>
        <p:spPr>
          <a:xfrm>
            <a:off x="250920" y="3429000"/>
            <a:ext cx="867564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араллельными реакциями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ывают реакции, в которых исходные вещества способны  образовывать разные продукты реакции или одно вещество  одновремен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особно реагировать 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сколькими веществ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2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 3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4N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8" name="Object 7"/>
          <p:cNvGraphicFramePr/>
          <p:nvPr/>
        </p:nvGraphicFramePr>
        <p:xfrm>
          <a:off x="7072200" y="4857840"/>
          <a:ext cx="1603440" cy="1646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9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072200" y="4857840"/>
                    <a:ext cx="160344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0" name="" descr=""/>
          <p:cNvPicPr/>
          <p:nvPr/>
        </p:nvPicPr>
        <p:blipFill>
          <a:blip r:embed="rId6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4T16:49:40Z</dcterms:created>
  <dc:creator>Елена</dc:creator>
  <dc:description/>
  <dc:language>en-US</dc:language>
  <cp:lastModifiedBy>User</cp:lastModifiedBy>
  <dcterms:modified xsi:type="dcterms:W3CDTF">2011-09-13T05:22:22Z</dcterms:modified>
  <cp:revision>105</cp:revision>
  <dc:subject/>
  <dc:title>ОСНОВЫ ХИМИЧЕСКОЙ КИНЕТИКИ И ХИМИЧЕСКОЕ РАВНОВЕСИЕ</dc:title>
</cp:coreProperties>
</file>